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105-108A-4054-991F-38EC4F11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5DC-9A1E-4DAC-9152-CD8EA98A7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3B7F-71C8-4BA4-8113-BA27211D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229-80B2-4C0A-AE1F-A57BD4B36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C552-64DF-4097-9113-0559080F2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D942-E8FE-4AE8-80D7-84F1523F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850-3AA9-474D-B980-5D5759121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A1D4-0372-47C0-8536-C1F200DA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B97C-69A7-4A4B-94E7-42FC880E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FB6-5FF1-4E6F-BA43-BF856A5F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33B-29F9-4FFE-B43A-20D405B55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982-8241-4468-B8AE-BC54BE42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B2B7-CB6F-40F1-B8FC-BDBCE1FA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D19D-2473-46C2-A2B6-68CC458BC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3E3-7E0B-4AD4-8191-BD83E0FB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8A8-C155-4F19-B3A1-31BCFD2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7CD-90BC-4C6B-9E7A-1DDC25FF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228-C583-446F-ABDD-666BB82A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5F2-8A0D-44E4-BDFD-BC9DC14B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C83-0BAB-4B30-B1CC-5768E7A1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1FE-3F9A-4865-8F4E-A4D2D8E5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FBF-CF6F-47E7-A5A1-FC2CBD95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DA1-D699-46A3-975D-F39E9B96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9AE-49DD-48EE-A8EF-D521F97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7AB-4635-408E-A16D-7D2B704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D28-C830-4B97-AD7C-CEEFFE2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3F0E-70B1-4063-B7CD-4DF06ECFA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_x0013_earth-x-section.gif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776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143360" y="380880"/>
            <a:ext cx="644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ayers of the Ear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744720" y="6248520"/>
            <a:ext cx="43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Copyright 2006.  M. J. Krech. All rights reserved.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1120" y="19051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time you heat anything like soup or water in a pan you can watch the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convection curr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ve in the liquid. When the convection currents flow in the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asthenosp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y also move the crust. The crust gets a free ride with these currents, like the </a:t>
            </a:r>
            <a:r>
              <a:rPr b="1" lang="en-US" sz="2000" spc="-1" strike="noStrike">
                <a:solidFill>
                  <a:srgbClr val="803629"/>
                </a:solidFill>
                <a:latin typeface="Times New Roman"/>
              </a:rPr>
              <a:t>c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illust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41620"/>
                </a:solidFill>
                <a:latin typeface="Times New Roman"/>
              </a:rPr>
              <a:t>Safety Cau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n’t get your face too close to the boiling water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_x000f_convection2.gif                                                0000006A_x0005_KRECH                          00000000:"/>
          <p:cNvPicPr/>
          <p:nvPr/>
        </p:nvPicPr>
        <p:blipFill>
          <a:blip r:embed="rId1"/>
          <a:srcRect l="59544" t="0" r="0" b="0"/>
          <a:stretch/>
        </p:blipFill>
        <p:spPr>
          <a:xfrm>
            <a:off x="762120" y="1676520"/>
            <a:ext cx="3257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uter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4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of the Earth is like a ball of very hot metals. The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outer 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so hot that the metals in it are all in the liquid state. The outer core is composed of the melted metals of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nickel and i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_x000c_Picture8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533520" y="1600200"/>
            <a:ext cx="48006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ner C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10080" y="18284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inner 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arth has temperatures and pressures so great that the metals are squeezed together and are not able to move about like a liquid, but are forced to vibrate in place like a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so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_x000c_Picture9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457200" y="1676520"/>
            <a:ext cx="45720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562720" cy="838440"/>
          </a:xfrm>
          <a:prstGeom prst="rect">
            <a:avLst/>
          </a:prstGeom>
          <a:solidFill>
            <a:srgbClr val="ff9900">
              <a:alpha val="5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_x000e_earthwedge.jpg                                                 00000002_x0005_KRECH                          00000000:"/>
          <p:cNvPicPr/>
          <p:nvPr/>
        </p:nvPicPr>
        <p:blipFill>
          <a:blip r:embed="rId1"/>
          <a:stretch/>
        </p:blipFill>
        <p:spPr>
          <a:xfrm>
            <a:off x="5029200" y="1752480"/>
            <a:ext cx="3597120" cy="4092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754200" y="2971800"/>
            <a:ext cx="3970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57"/>
                </a:solidFill>
                <a:latin typeface="Times New Roman"/>
              </a:rPr>
              <a:t>BON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ir or trio  and answer this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Have we ever seen part of the Mantle?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354200" y="6248520"/>
            <a:ext cx="43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Copyright 2006.  M. J. Krech. All rights reserved.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Four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10080" y="12949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th is composed of four different layers. The </a:t>
            </a:r>
            <a:r>
              <a:rPr b="1" lang="en-US" sz="2400" spc="-1" strike="noStrike">
                <a:solidFill>
                  <a:srgbClr val="0080ff"/>
                </a:solidFill>
                <a:latin typeface="Times New Roman"/>
              </a:rPr>
              <a:t>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layer that you live on, and it is the most widely studied and understood. The </a:t>
            </a:r>
            <a:r>
              <a:rPr b="1" lang="en-US" sz="2400" spc="-1" strike="noStrike">
                <a:solidFill>
                  <a:srgbClr val="e41620"/>
                </a:solidFill>
                <a:latin typeface="Times New Roman"/>
              </a:rPr>
              <a:t>man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much hotter and has the ability to flow. The </a:t>
            </a:r>
            <a:r>
              <a:rPr b="1" lang="en-US" sz="2400" spc="-1" strike="noStrike">
                <a:solidFill>
                  <a:srgbClr val="ffc257"/>
                </a:solidFill>
                <a:latin typeface="Times New Roman"/>
              </a:rPr>
              <a:t>outer core and inner c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even hotter with pressures so great you would be squeezed into a ball smaller than a marble if you were able to go to the center of the Eart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0c_Picture2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380880" y="1752480"/>
            <a:ext cx="5181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86400" y="1980720"/>
            <a:ext cx="327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arth'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the skin of an apple. It is very thin in comparison to the other three layers. The crust is only about 3-5 miles (8 kilometers) thick under the ocean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ceanic 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about 25 miles (32 kilometers) thick under the continents (</a:t>
            </a:r>
            <a:r>
              <a:rPr b="1" lang="en-US" sz="2000" spc="-1" strike="noStrike">
                <a:solidFill>
                  <a:srgbClr val="803629"/>
                </a:solidFill>
                <a:latin typeface="Times New Roman"/>
              </a:rPr>
              <a:t>continental c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c_Picture4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457200" y="1752480"/>
            <a:ext cx="5029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hospher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Earth is broken into many pieces called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pl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plates "float" on the soft, semi-rigi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henosp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&#10;plates.jpg  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1523880" y="1143000"/>
            <a:ext cx="57913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3808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The Asthen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_x0014_convectingmantle.gif                                           0000006A_x0005_KRECH                          00000000:"/>
          <p:cNvPicPr/>
          <p:nvPr/>
        </p:nvPicPr>
        <p:blipFill>
          <a:blip r:embed="rId1"/>
          <a:srcRect l="0" t="0" r="0" b="14700"/>
          <a:stretch/>
        </p:blipFill>
        <p:spPr>
          <a:xfrm>
            <a:off x="0" y="1219320"/>
            <a:ext cx="5257800" cy="3985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5410080" y="20574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</a:t>
            </a:r>
            <a:r>
              <a:rPr b="1" lang="en-US" sz="2400" spc="-1" strike="noStrike">
                <a:solidFill>
                  <a:srgbClr val="e41620"/>
                </a:solidFill>
                <a:latin typeface="Courier New"/>
              </a:rPr>
              <a:t>asthenosphe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s the semi-rigid part of the </a:t>
            </a:r>
            <a:r>
              <a:rPr b="1" lang="en-US" sz="2400" spc="-1" strike="noStrike">
                <a:solidFill>
                  <a:srgbClr val="e41620"/>
                </a:solidFill>
                <a:latin typeface="Courier New"/>
              </a:rPr>
              <a:t>middle mant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hat flows like hot asphalt under a heav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thosp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rust and the upper layer of the man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gether make up a zone of rigid, brittle rock called the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_x000c_Picture5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1828800" y="4038480"/>
            <a:ext cx="54864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mposed of two rocks. The </a:t>
            </a:r>
            <a:r>
              <a:rPr b="1" lang="en-US" sz="2800" spc="-1" strike="noStrike">
                <a:solidFill>
                  <a:srgbClr val="803629"/>
                </a:solidFill>
                <a:latin typeface="Times New Roman"/>
              </a:rPr>
              <a:t>continental 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mostly </a:t>
            </a:r>
            <a:r>
              <a:rPr b="1" lang="en-US" sz="2800" spc="-1" strike="noStrike">
                <a:solidFill>
                  <a:srgbClr val="803629"/>
                </a:solidFill>
                <a:latin typeface="Times New Roman"/>
              </a:rPr>
              <a:t>gran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ic cr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a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asalt is much denser than the granite. Because of this   the less dense continents ride on the   denser oceanic pl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_x000c_Picture5.gif                                                   0000006A_x0005_KRECH                          00000000:"/>
          <p:cNvPicPr/>
          <p:nvPr/>
        </p:nvPicPr>
        <p:blipFill>
          <a:blip r:embed="rId1"/>
          <a:srcRect l="0" t="21185" r="0" b="0"/>
          <a:stretch/>
        </p:blipFill>
        <p:spPr>
          <a:xfrm>
            <a:off x="228600" y="914400"/>
            <a:ext cx="8686800" cy="3181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93560" y="-1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e41620"/>
                </a:solidFill>
                <a:latin typeface="Times New Roman"/>
              </a:rPr>
              <a:t>Man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argest layer of the Earth. The </a:t>
            </a:r>
            <a:r>
              <a:rPr b="1" lang="en-US" sz="3200" spc="-1" strike="noStrike">
                <a:solidFill>
                  <a:srgbClr val="e41620"/>
                </a:solidFill>
                <a:latin typeface="Times New Roman"/>
              </a:rPr>
              <a:t>middle man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mposed of very hot dense rock that flows like asphalt under a heavy weight. The movement of the middle mantle (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asthenosp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ason that the crustal plates of the Earth m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_x000c_Picture6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304920" y="1600200"/>
            <a:ext cx="409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9720" y="18288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dle mantle "flows" because of convection currents.  </a:t>
            </a:r>
            <a:r>
              <a:rPr b="1" lang="en-US" sz="2800" spc="-1" strike="noStrike">
                <a:solidFill>
                  <a:srgbClr val="e41620"/>
                </a:solidFill>
                <a:latin typeface="Times New Roman"/>
              </a:rPr>
              <a:t>Convection curr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aused by the very hot material at the deepest part of the mantle rising, then cooling and sinking again --repeating this cycle over and o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0c_Picture7.gif                                                   0000006A_x0005_KRECH                          00000000:"/>
          <p:cNvPicPr/>
          <p:nvPr/>
        </p:nvPicPr>
        <p:blipFill>
          <a:blip r:embed="rId1"/>
          <a:stretch/>
        </p:blipFill>
        <p:spPr>
          <a:xfrm>
            <a:off x="228600" y="1828800"/>
            <a:ext cx="43434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1:03:27Z</dcterms:created>
  <dc:creator>Eric Knapp</dc:creator>
  <dc:description/>
  <dc:language>en-US</dc:language>
  <cp:lastModifiedBy>Gina</cp:lastModifiedBy>
  <dcterms:modified xsi:type="dcterms:W3CDTF">2010-11-07T21:27:03Z</dcterms:modified>
  <cp:revision>61</cp:revision>
  <dc:subject/>
  <dc:title>PowerPoint Presentation</dc:title>
</cp:coreProperties>
</file>